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B290-B213-4869-861F-810720C83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5649-3B9F-406E-A5B7-3321A5E2B83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2CE4-867D-43EC-81C0-25E685F326C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9370-B32B-464C-B723-67F8CAE9460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ouse; Characters: Hollis, Mustard Women, Steven, The Old Man, Josie) ; Problem: Hollis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have a family (she was abandoned on p. 48); longs to belong; some issue with Steven and how she messed everything up (p. 29); Sh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E477-D934-42B0-B310-0770EE55EA2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50F9-C19A-45C4-8AD8-906AFF4408F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58E6-15CF-4320-8250-1810A1AB770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9050-46CC-401B-B0D0-273471124D7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ouse; Characters: Hollis, Mustard Women, Steven, The Old Man, Josie) ; Problem: Hollis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have a family (she was abandoned on p. 48); longs to belong; some issue with Steven and how she messed everything up (p. 29); Sh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42CB-3BEB-4167-AC92-39991C7A0D2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1504-1FAA-4092-B443-BDECC89F5E9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ypes of questions I am asking – these are high level questions, assumes you have read the book, but looks across bigger picture, rather than selecting isolated det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724-6651-4B05-AC1C-17059E75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3BA-A0C8-4EB1-A855-24BF6787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517-9081-4103-8E5B-052F2238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CFA-6CBE-4666-928B-D735690F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9A1F-A204-4ACD-A86C-0A14B10E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667F-2588-400B-915C-5C68D5D8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F87B-A486-4A96-9DDA-780FD8FA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8468-94A1-465B-B325-659E948C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83FE-48E2-4AAA-83DF-286D66C1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03F4-6762-4901-9FE0-47922C5F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8FA0-B1D2-4BE4-9DFB-CF0D38AE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0A9-E888-4CE1-AF50-7AC4D4A9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312A-6930-45DE-BD5E-BBB0E595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C645-4E68-40A8-BCEB-A2671787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04EE-B4DE-4A57-9C95-5E02831A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119A-483A-41B6-981A-6247ACFF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E54B-5527-4AA4-93FF-95E37E7D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50B-5455-4EA5-88F7-C75962B7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977-2F52-49BB-ADD0-1F2B9E99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5A3-4CC6-493F-8F43-75009400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FF0-EA0C-4E98-A8AF-ACCA8AE6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D25-1D68-49FC-94B6-63463537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1B1-2DC5-40D4-873E-F5B3752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B02-E321-4E0C-92A4-230CDC83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5D15-8D39-4F9F-8DDA-D0D4C3948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67BA-4929-4FC4-9861-878EC472B6A7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adingrockets.org/strategies/reciprocal_teachi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Elements of Realistic Fiction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&amp; Author</a:t>
            </a:r>
            <a:r>
              <a:rPr b="1" lang="ja-JP" sz="36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s Craft (</a:t>
            </a:r>
            <a:r>
              <a:rPr b="1" i="1" lang="en-US" sz="3600" spc="-1" strike="noStrike">
                <a:solidFill>
                  <a:srgbClr val="320000"/>
                </a:solidFill>
                <a:latin typeface="Arial"/>
              </a:rPr>
              <a:t>Hollis Woods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Guided Reading Instruction: Teaching Students to Ask and Answer Question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- 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Incorporating these discussions into guided reading Gr. 3-6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se discussions require high-level thinking; moving beyond recall and comprehension of isolated details (Who?, What?, When?)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 between story events? How? Why? What do you think? How do these ideas reflect theme of…? 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need modeling &amp; support in how to answer &amp; eventually ask themselves questions that keep them engaged with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king Ques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uestion answer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versus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uestion generat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oth are solid strategies for supporting higher-level comprehen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ocus on the </a:t>
            </a: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of asking question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me from interest, confusion, curiosity, and a need to know &gt; teach children how to generate their own ques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Use structures like Reciprocal Teaching to help set a purpos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question, clarify, summarize, predic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ciprocal Teach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5" name="Picture 3" descr="Screen Shot 2016-11-16 at 10.45.04 P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62040"/>
            <a:ext cx="9080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Reciprocal Teach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edict &gt; Ask questions &gt; Clarify &gt; Summarize (see handout)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ry It Out: p. 50-52 (end of 2</a:t>
            </a:r>
            <a:r>
              <a:rPr b="0" lang="en-US" sz="3200" spc="-1" strike="noStrike" baseline="30000">
                <a:solidFill>
                  <a:srgbClr val="33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paragraph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Predict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you think Hollis will continue to get along with Josie in this chapter? Why/why not?</a:t>
            </a:r>
            <a:r>
              <a:rPr b="0" lang="is-I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1 Question for partner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1 Vocab word or confusing part want clarity 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Summarize main idea of se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eaching students how to ask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and answer question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Open-ended (thick) vs. closed (thin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sk Why/How questions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o predict, clarify meaning; understand vocabulary; locate specific info; connect; summarize; extend learning [p.187-189]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ink of our quiz questions! (not just recall, but discuss and/or apply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asiest “what question” – What’s going on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swering Questions: </a:t>
            </a:r>
            <a:br>
              <a:rPr sz="44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Question-Answer Relationships (QAR)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y recognizing the type of question being asked, students are better able to find the answ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, they don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 spend all their time looking for answers that are not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ight there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learn how to generate their own high-level (or low-level) ques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on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ck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ig picture concepts)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pecific details) that guide their own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Albert was afraid that Susan would beat him in the tennis match. The night before the match, Albert broke both of Susan</a:t>
            </a:r>
            <a:r>
              <a:rPr b="0" i="1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s racquet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IGHT THERE: When did Albert break both of Susan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 &amp; SEARCH: Why did Albert break both of Susan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 YOUR OWN: Why was Albert afraid that Susan would beat him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 &amp; YOU: What does the author seem to imply about Albert in this pa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evels of Ques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ight There: LITER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nd Search: INFERENTIAL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ad between the lines and think how info fit togethe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thor and You: INFERENTI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think about author clues and formulate own opinion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n My Own: EVALUATIV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what do you think?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888480" y="6062760"/>
            <a:ext cx="12553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ITER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 rot="16200000">
            <a:off x="1109880" y="3625560"/>
            <a:ext cx="19512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NFERENTI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593280" y="1971720"/>
            <a:ext cx="17917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EVALUATIV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nswer questions in your handout for Vacation Under the Volcano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enerate and label your own questions using Hollis Woods, p. 55-58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reader)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teacher)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</a:t>
            </a:r>
            <a:r>
              <a:rPr b="1" lang="ja-JP" sz="40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Review qualities of realistic fiction and initial impressions of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ig ideas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author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 craft in Hollis Wood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Discuss/apply methods for using questioning to promot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scuss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onvers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Ch. 7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ciprocal Teaching (Asking Question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 Answer Relationships (QA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ing the Author (QtA) in your book onl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. Explain homework assignmen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Keep these elements in mind as you continue reading….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ory element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structure your response (and story clues to back up with evidenc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blem/Resolution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theme/author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uthor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 craft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r Tuesday, Nov. 16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rnett (Ch. 7 p. 195-215: Discussions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tinue reading Hollis Woods (pp. 50-100) &amp; filling out summary shee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ing up: Hollis Woods Guided Reading Plan (due Tues. Nov. 28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y read Realistic Fic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arrative stories grounded in reality with believable characters, situations, and setting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Reflects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contemporary life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; takes place in familiar settings; and presents common situations with which the reader can identify 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Protagonists face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real-life problems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(abuse, drugs, disability, death) and mature from the life experience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Very popular genre (book and authors have won many awards – e.g. Newbury Medal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ypes of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coming One’s Own Pers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nsition from child and growing into an adul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llenging relationships, transitions, struggles with human issues such as friendship, love, or acceptance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ping with Problems of the Human Condi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physical/emotional challenges and ag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ving In A Diverse World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acial, ethnic, cultural diversity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or Kid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mily stories, school stories, animal stories, adventure/survival stories, humorous stories, mysteries, serious stor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417560" y="6324480"/>
            <a:ext cx="39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ifer, Hickman, &amp; Hepler (2007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ality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istics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good story that engages readers to care about the outcom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racter develop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orms an integral part of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volves a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llenging situ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quiring problem solving or refle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s left with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ptimistic messag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hat problems can be overcome and people have control over their live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ep in mind as you read and reflect on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Hollis Woods (useful for guiding the questions you ask and sections you focus on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ality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nefi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(with effective instruction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Readers gain new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insights into themselves and peers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in the context of realistic relationships and problems we face in our lives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resents a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model of confronting life experiences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where the reader can serve as a spectator (watch reality, from a safe distance, as opposed to escaping from it with fantasy)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Depicts life in other cultures, geographic or economic regions which fosters a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broader view of the world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What’s the best way to sum up the big ideas in narrative texts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ory element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structure your response (and story clues/quotes to back up with evidenc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blem/Resolution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theme/author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uthor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 craft</a:t>
            </a:r>
            <a:r>
              <a:rPr b="0" lang="ja-JP" sz="28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uthor</a:t>
            </a:r>
            <a:r>
              <a:rPr b="1" lang="ja-JP" sz="44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 Craf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ools and techniques of language and storytelling that an author uses to craft a story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Narrative element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setting, theme, &amp;  characterization – how authors convey information about these elements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Literary Device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alliteration, allusion, metaphor, parallel structure, simile, etc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onnecting to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er to your Author</a:t>
            </a:r>
            <a:r>
              <a:rPr b="1" lang="ja-JP" sz="2800" spc="-1" strike="noStrike">
                <a:solidFill>
                  <a:srgbClr val="33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 Craft char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rong Character Development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allenging Situation requiring problem solving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ints of an Optimistic Me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ew insights into relationships or broader range of experience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esting patterns you are noticing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You might craft your comprehension questions around these categories.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24:01Z</dcterms:created>
  <dc:creator>Julie Coiro</dc:creator>
  <dc:description/>
  <dc:language>en-US</dc:language>
  <cp:lastModifiedBy>Julie Coiro</cp:lastModifiedBy>
  <cp:lastPrinted>2011-10-31T16:57:53Z</cp:lastPrinted>
  <dcterms:modified xsi:type="dcterms:W3CDTF">2017-11-16T03:11:26Z</dcterms:modified>
  <cp:revision>382</cp:revision>
  <dc:subject/>
  <dc:title>Metacognitive Strategy Instruction to Enhance Reading Comprehension</dc:title>
</cp:coreProperties>
</file>